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54B-2931-44C2-9E52-B8EC8014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206-CB8B-4F19-8058-AC28C976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9F58-C711-40A8-BE6F-76933E3B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116-C685-4EB9-912A-DCC6715B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81EF-E2EB-4005-AA2C-093BCC7F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A4F1-29EE-4305-B99F-FA87C921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87D4-ADD7-41E0-B664-DCABF40B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ADEA-9FA9-4732-ADFF-21AB3594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26B7-34A9-4075-B184-E49FCEA1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F838-629C-462F-89E7-D61C56D6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B15F-4194-41C5-8182-8E8EFB4A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91B4-D6E8-42D9-AA90-C8202664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2AE4-6FA2-454D-AAAD-DABC34E5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4D43-E50D-4753-9900-1A1D596E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3157-BF88-4721-AEDE-B7369894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E6A2-4385-4D9F-8E86-46FBBBFF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DF06-5ACD-419B-9E93-8277E636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6F8-17E6-4A31-B200-3494FD5C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C3F5-F6D4-4298-AAF8-2BD37E7B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EB4-BAE1-48AF-8D00-87C3B839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67DC-2473-4760-AB18-857BB770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C433-E75E-42E5-935B-E64AA292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226-E641-4288-B699-7FB5EC8C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8EB6-1B05-4B51-9C49-21CB1731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FAEB-B215-45E5-BA62-CBF6C11DA57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D2CB-E67C-4D47-8817-294A84C19B4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mazon.com/" TargetMode="External"/><Relationship Id="rId2" Type="http://schemas.openxmlformats.org/officeDocument/2006/relationships/hyperlink" Target="http://www.microsoft.com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../../../Publications/Journals/Journals Listing.doc" TargetMode="External"/><Relationship Id="rId2" Type="http://schemas.openxmlformats.org/officeDocument/2006/relationships/hyperlink" Target="../../../Publications/Journals/Target Journals and Articles to be Reviewed.doc" TargetMode="External"/><Relationship Id="rId3" Type="http://schemas.openxmlformats.org/officeDocument/2006/relationships/hyperlink" Target="../../../Publications/Journals/Journal of Technology Education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A Good Research Thesis Framework.pdf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../Paper Review/121.pdf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ow to Start the Research.pdf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ow to Start the Research.pdf" TargetMode="External"/><Relationship Id="rId2" Type="http://schemas.openxmlformats.org/officeDocument/2006/relationships/hyperlink" Target="Instuction to Select a Researh Topic.pdf" TargetMode="External"/><Relationship Id="rId3" Type="http://schemas.openxmlformats.org/officeDocument/2006/relationships/hyperlink" Target="Research Guide.pdf" TargetMode="External"/><Relationship Id="rId4" Type="http://schemas.openxmlformats.org/officeDocument/2006/relationships/hyperlink" Target="Web Guide to Start Searching for Research Topics.pdf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Research Method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anda Ganesan, Ph.D.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Professor of Information System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alifornia State University, Los Angele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Research Topic Orienta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Pur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pplied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ust be differentiated from development of application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Extensive survey of literature on a topic and its application to a local scenario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Notes on Research Topic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ote that all research need not be pur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pplied research with new ideas are also widely accepted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search with extensive literature survey on a topic and its expansion to provide incremental addition to knowledgebase may also be considered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Undergraduate Project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pplied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Extensive literature survey based project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Using the Areas of Strength to Select a Topic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he actual selection must now be determined by the areas of strength of the candidate along with the area of interest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Database design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Network applications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Strength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Analytica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Applied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Literature comprehension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Following the in-house research pattern may not be the best choic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Eg: MySQL and php based application development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Venture into other areas as well 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Importance of Literature Survey in Finalizing the Research Topic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n extensive literature survey is important to fine tune the research topic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Literature Survey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Initial Identification of Emerging Area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nternet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agazine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Will provide an indication about emerging area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Visit the nearest computer book store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r search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http://www.amazon.com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Book Antiqu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of trade magazines and trade artic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industry websit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Book Antiqua"/>
                <a:hlinkClick r:id="rId2"/>
              </a:rPr>
              <a:t>http://www.Microsoft.com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rade publications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of academic publication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bstrac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ad Abstract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lge Search is a good starting poin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Google scholar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Key words are everything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ake copies of all the important documents with an abstract stored separately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hortlist the possible topics 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More Specific Literature Survey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cholarly journal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ccess associations in the field for more information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brary databas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topic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terature survey articl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asic reference listing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g: Agre’s summary of basic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cholarly Journal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dentify journals in the field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List of journal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arrow down to target journal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2"/>
              </a:rPr>
              <a:t>Target journal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ore journal inform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3"/>
              </a:rPr>
              <a:t>Journal of Technology Educ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Purpose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Outline the steps that may be followed to select and conduct a final year applied or research projec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Provide suggestions on an approach to write the project report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ssociations in the Fiel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istance Education Associ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Obtain information about the journals published by the associ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Identifying Journals in the Field: Library Searche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ibrary database search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ric search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ther search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panding on the journal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btain information on additional journal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oop back to Google search with the new inform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Expanding the Literature Survey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is that one article that can expand the literature bas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Obtain additional names of journals and topics from the references of the most relevant artic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any a times, it would be one group of authors who will be talking about a particular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Do more search based on the author’s nam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urrent Work-in Progres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Keep information on current work in progress that may contain bits of pieces of different papers or chapter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Keep copies of all the referenc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ther Search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topic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terature survey articl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asic reference listing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g: Agre’s summary of basic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The Search Proces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earch Engin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gl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Basic and advanced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Other search engin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oogle 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eneral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dvanced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Advance search operator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gle Scholar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ther 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terate between Google search and the search of other material such as journal searches etc.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brary databases, if available, can be exceptionally useful in finding related research work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Demonstration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gle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brary database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bjective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Overview of the research proces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lecting a research topic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onducting literature survey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ing th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Writing the Thesis 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Writing the Thesi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odularize the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Start writing under each of the modu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Good starting points are introduction, literature survey, description of the process divided possibly into multiple chapter, presentation of results, discussion, reference to future work and conclusion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Feel free to move from one module to another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At the early stages, the flow of information must be the prime objectiv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ffort to maintain continuity should not hinder the flow of thoughts while initially writing the thesi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etting Starte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art writing the introduction and the literature survey in skeleton form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Have an outline of the thesi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must be in modular form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eneral Modular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Introduction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Literature survey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Hypotheses and/or experimental background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perimental or Procedural design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Module 1: Details of experiment and presentations of finding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Module 2: Details of experiment and presentation of findings etc.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Discussion of findings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Conclusion and reference to future work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List of Reference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Appendix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tarting to Write 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odularize the chapters into sub-topic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art writing under each module as the thoughts flow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o not focus on continuity or grammar at this tim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nclude additional sections and/or remove current sections as appropriat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ome Writing Techniqu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eave writing when writing block occur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efore ending a writing session make short notes on the next session to star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ink about the topic the night before the day of writing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ornings are the best time to writ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Refining the Thesi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stablish continuit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Do additional literature survey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Continue to improve continuit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Give the thesis to be read by a technical and a non-technical person and make changes accordingl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eave a gap of time before the final reading and editing of the thesi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Perform final editing and submit the thesi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Important Considera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lways be nice to the supervisor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research teaches you more than scientific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extols the virtue of human relationship, patience etc.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 Sample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Research Paper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Examples of Local Paper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ome examples will be provided that follows the suggested outline, in genera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Career advise expert system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Research Proces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 Final Sugges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lect a topic that would help in applying the theory learned in the cours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lect a topic that has some practical valu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lect a topic that would be of interest to others as wel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Before Starting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e down all the idea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Obtain and retain copies of all related material obtained 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ore all the inform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Carry a flash drive for the purpos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ocus on selecting a good research topic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Overview of Research Proces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btain a general idea of the research topic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Read scholarly papers to refine and define the topic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Identify the research community currently involved in research under the same topic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Discuss ideas with colleagues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pand the research theme and write an initial outline paper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Revise the paper and define clearly the research them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Implement the chosen research them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Referenc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Writing the Repor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view of sample report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odularizing the topic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nitial writing of repor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ing techniqu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fining the repor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Some Resources for Getting Started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f one is new, do a Google search for articles on how to start th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ome examples: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How to start the re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2"/>
              </a:rPr>
              <a:t>Instruction to select a research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3"/>
              </a:rPr>
              <a:t>Research guid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4"/>
              </a:rPr>
              <a:t>Web guide to start searching for research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Exploring a Research Topic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13:28:09Z</dcterms:created>
  <dc:creator>kumar</dc:creator>
  <dc:description/>
  <dc:language>en-US</dc:language>
  <cp:lastModifiedBy>Teacher WD Shuttle</cp:lastModifiedBy>
  <dcterms:modified xsi:type="dcterms:W3CDTF">2006-09-11T21:47:01Z</dcterms:modified>
  <cp:revision>42</cp:revision>
  <dc:subject/>
  <dc:title>Conducting Resear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